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vasic_gordana@yahoo.com" TargetMode="External"/><Relationship Id="rId2" Type="http://schemas.openxmlformats.org/officeDocument/2006/relationships/hyperlink" Target="mailto:andriana.bukonjic@medf.kg.ac.rs" TargetMode="External"/><Relationship Id="rId3" Type="http://schemas.openxmlformats.org/officeDocument/2006/relationships/hyperlink" Target="http://www.medf.kg.ac.rs/sqmail/src/compose.php?send_to=dusantomovic@medf.kg.ac.rs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df.kg.ac.rs/" TargetMode="External"/><Relationship Id="rId2" Type="http://schemas.openxmlformats.org/officeDocument/2006/relationships/hyperlink" Target="http://www.medf.kg.ac.r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98064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вод у бионеорганску хем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 дисциплина која повезује биохемију и неорганску хемију названа је БИОНЕОРГАНСКА ХЕ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ш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ен екстракцијом из биља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олован из животињске кр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ован сувом дестилацијом из урина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6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пела морских алг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2.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љ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зва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с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атр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иментал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ома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в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3"/>
          <p:cNvSpPr/>
          <p:nvPr/>
        </p:nvSpPr>
        <p:spPr>
          <a:xfrm>
            <a:off x="3000240" y="3429000"/>
            <a:ext cx="3500640" cy="1271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а х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Callout 12"/>
          <p:cNvSpPr/>
          <p:nvPr/>
        </p:nvSpPr>
        <p:spPr>
          <a:xfrm>
            <a:off x="1571760" y="1785960"/>
            <a:ext cx="2428920" cy="1112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а х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 Callout 13"/>
          <p:cNvSpPr/>
          <p:nvPr/>
        </p:nvSpPr>
        <p:spPr>
          <a:xfrm>
            <a:off x="5857920" y="4643280"/>
            <a:ext cx="2428920" cy="1113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14"/>
          <p:cNvSpPr/>
          <p:nvPr/>
        </p:nvSpPr>
        <p:spPr>
          <a:xfrm>
            <a:off x="3000240" y="5429160"/>
            <a:ext cx="2571840" cy="1143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 Callout 15"/>
          <p:cNvSpPr/>
          <p:nvPr/>
        </p:nvSpPr>
        <p:spPr>
          <a:xfrm>
            <a:off x="571680" y="4643280"/>
            <a:ext cx="2428560" cy="1113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Callout 16"/>
          <p:cNvSpPr/>
          <p:nvPr/>
        </p:nvSpPr>
        <p:spPr>
          <a:xfrm>
            <a:off x="6429240" y="2714760"/>
            <a:ext cx="2428920" cy="1112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кро-) биоло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17"/>
          <p:cNvSpPr/>
          <p:nvPr/>
        </p:nvSpPr>
        <p:spPr>
          <a:xfrm>
            <a:off x="4214880" y="1643040"/>
            <a:ext cx="2428920" cy="1112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 Callout 18"/>
          <p:cNvSpPr/>
          <p:nvPr/>
        </p:nvSpPr>
        <p:spPr>
          <a:xfrm>
            <a:off x="571680" y="3000240"/>
            <a:ext cx="2428560" cy="1113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20"/>
          <p:cNvCxnSpPr/>
          <p:nvPr/>
        </p:nvCxnSpPr>
        <p:spPr>
          <a:xfrm>
            <a:off x="3286080" y="2857320"/>
            <a:ext cx="3578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22"/>
          <p:cNvCxnSpPr/>
          <p:nvPr/>
        </p:nvCxnSpPr>
        <p:spPr>
          <a:xfrm flipH="1">
            <a:off x="5143320" y="2786040"/>
            <a:ext cx="143280" cy="60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24"/>
          <p:cNvCxnSpPr/>
          <p:nvPr/>
        </p:nvCxnSpPr>
        <p:spPr>
          <a:xfrm flipH="1">
            <a:off x="6214680" y="3499200"/>
            <a:ext cx="3578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26"/>
          <p:cNvCxnSpPr/>
          <p:nvPr/>
        </p:nvCxnSpPr>
        <p:spPr>
          <a:xfrm>
            <a:off x="2928600" y="3714840"/>
            <a:ext cx="14364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8"/>
          <p:cNvCxnSpPr/>
          <p:nvPr/>
        </p:nvCxnSpPr>
        <p:spPr>
          <a:xfrm flipV="1">
            <a:off x="2714400" y="4285440"/>
            <a:ext cx="37044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30"/>
          <p:cNvCxnSpPr/>
          <p:nvPr/>
        </p:nvCxnSpPr>
        <p:spPr>
          <a:xfrm flipV="1">
            <a:off x="4500720" y="4714920"/>
            <a:ext cx="720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2"/>
          <p:cNvCxnSpPr/>
          <p:nvPr/>
        </p:nvCxnSpPr>
        <p:spPr>
          <a:xfrm flipH="1" flipV="1">
            <a:off x="6285960" y="4500000"/>
            <a:ext cx="2149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дисциплинар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неорганске хемије био је потребан висок ниво развој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е хемиј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за испитивање структуре једињења као што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R (нуклеарно-магнетно-резонанциона спектроскоп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(инфрацрвена спектроскоп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а апсорпциона спектроскопија ка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дгенска стуктурна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68360" y="486900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цијални немет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, C, 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цијални елем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, Mg, Ca, Mo, Mn, Fe, Ni, Co, Zn, B, N, P, S, C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ел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сни елемент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, Co, Si, 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у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Periodic Table marked with essential and beneficial elements"/>
          <p:cNvPicPr/>
          <p:nvPr/>
        </p:nvPicPr>
        <p:blipFill>
          <a:blip r:embed="rId1"/>
          <a:stretch/>
        </p:blipFill>
        <p:spPr>
          <a:xfrm>
            <a:off x="468360" y="1557360"/>
            <a:ext cx="8305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9280" y="1125000"/>
            <a:ext cx="8785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0 „метала живота” убројан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 чији с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попуњеним орбиталама (Na, K, Mg, Ca, Z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 чији с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непопуњеним 3d-орбиталама (Mn, Fe, Co, 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 један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л чији ј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пуњен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d-енергетски ниво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упу најраспрострањенијих елемената улази само 18 елемената од којих се шест сматрају неопходним за живот (C, H, N, O, S, P) јер улазе у састав протеина, нуклеинских киселина, полисахарида и других важних једињења и чине основу живота на Земљи. Ови елементи се налазе у природи у својим најстабилнијим оксидационим стањима: H(+1), O(-2), N(-3), C(+4), P(+5), S(-2, +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 дванаест елемената имају врло важну улогу у живим организмима и ту спадај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еметала (Cl, I)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т метала названим „метали живота” (Na, K, Mg, Ca, Zn, Mn, Fe, Co, Cu, M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е елементе можемо поделити у две гру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лазне елементе (Na, K, Mg, Ca, Zn) који имају сталан оксидациони број и попуњене 3d орбит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е елементе (Fe, Co, Cu, Mn, Mo) који имају променљив оксидациони број који је последица непопуњених d-енергетских ниво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 и кал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ни метали (натријум и калијум) с обзиром да се налазе у првој групи у последњем енергетском нивоу садрже један електрон. Одликује 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к први јонизацион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о стање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 јонске везе у једињењ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а разлика између ова два елемента је у њиховим величинама и енергији хидратације што има пресудан утицај на њихов значај и улогу у биолошким систем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натријума налазе се у течностима ван ћелије и припадају ванћелијским елемен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калијума се налазе у ћелијама и припадају унутарћелијским елемен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20 Бионеорганска хем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носи 7 ЕСПБ бо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 се у петом семес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н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аса предавања, 1 час семинара и 2 часа веж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часова активне наста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, магнезијум и ци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цијум гради везе са јонским карак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гради везе са израженијим ковалентим карактером па лако гради координационе везе (са азотом из амино груп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пр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 јона цинка је сличан јонском полупречнику магнезијума, а први и други јонизациони потенцијали су знатно виши од одговарајућих потенцијала магнезијума и калцијума. На основу тога се објашњава релативно велики ковалентни карактер веза цинка и знатно премештање електронске густине из везе донор-цинк (акцептор) према јону ц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 има велики значај и улогу у биосистемима јер је саставни део већег броја веома важних ен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, гвожђе, кобалт, бакар и молиб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483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од најважнијих особина наведених елемената је променљивост оксидационих стања што има изузетан значај у биосистемима а последица је непопуњености 3d - орби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сличности у јонским полупречницима и јонизационим потенцијалима они показују велику сличност у хемијским особинама при којима се мења оксидационо ст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замене једних јона другим без битних промена у биолошким функц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9280" y="119700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бден се одликује стабилним високим степенима оксидациј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им стањима 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и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бог чега гради анјоне и оксо-једињења што омогућава његово учешће у биопроцесима са преносом елект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715000" y="1928880"/>
            <a:ext cx="3429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37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ан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, Si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но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сфе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H = 7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истир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актив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бд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олошк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О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кациј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ркапт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нол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апт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бутер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Cu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g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ми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900000" y="2630520"/>
          <a:ext cx="21002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30520"/>
                    <a:ext cx="21002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5"/>
          <p:cNvGraphicFramePr/>
          <p:nvPr/>
        </p:nvGraphicFramePr>
        <p:xfrm>
          <a:off x="826920" y="4292640"/>
          <a:ext cx="279252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292640"/>
                    <a:ext cx="27925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1061640"/>
            <a:ext cx="87138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ендиаминтетрасирћетна киселина за детоксикацију услед тровања јоним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2"/>
          <p:cNvGraphicFramePr/>
          <p:nvPr/>
        </p:nvGraphicFramePr>
        <p:xfrm>
          <a:off x="1258920" y="2997360"/>
          <a:ext cx="6519960" cy="15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97360"/>
                    <a:ext cx="651996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39760" y="1700280"/>
            <a:ext cx="87249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јоне метала карактеристичне су две врсте интер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статичк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и тип интеракција одређен је наелектрисањем катјона, његовом величином, али и наелектрисањем и величином долазеће честице или њеног диполног мо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интеракција (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у првој апроксимацији одређена једначин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 кулоновски интеграл реагујућих орбитала катјона и ан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ља интеграл преклапања тих орб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ковалентних карактеристика (С) јони метала се могу поделити у три гру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ниским вредностима С (око 20 за једновалентне и 30 за двовалентне), лако реагују са атомима кисе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њим вредностима за С (око 75-90) за двовалентне јоне; лако образују координативне везе са донорским атомима азота, али имају способност грађења координативно-ковалентних веза и са атомима кисе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им вредностима за С (око 60 за једновалентне и 135 за двовалентне), најлакше граде координативне везе са донорским атомима сумпора али и са азотом (изузетак је 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класификација је у сагласности са поделом која се данас највише користи, а то је подела катојона на јаке и слабе (тврде и меке) киселине коју је описао Пирс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ци и сарад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1989000"/>
          <a:ext cx="8785440" cy="2011680"/>
        </p:xfrm>
        <a:graphic>
          <a:graphicData uri="http://schemas.openxmlformats.org/drawingml/2006/table">
            <a:tbl>
              <a:tblPr/>
              <a:tblGrid>
                <a:gridCol w="466920"/>
                <a:gridCol w="3105000"/>
                <a:gridCol w="3227400"/>
                <a:gridCol w="1986120"/>
              </a:tblGrid>
              <a:tr h="463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и прези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mail адре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дана П. Ради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vasic_gordana@yahoo.co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редни профес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иана М. Букоњи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andriana.bukonjic@medf.kg.ac.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ст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шан Љ. Томови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dusantomovic@medf.kg.ac.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ст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стабилн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Тврде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тврде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б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еке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еке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ека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тврда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ба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Тврда</a:t>
            </a:r>
            <a:r>
              <a:rPr b="0" lang="sr-Latn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ека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а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с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врде</a:t>
            </a:r>
            <a:r>
              <a:rPr b="1" i="1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иселине</a:t>
            </a:r>
            <a:r>
              <a:rPr b="1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ју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иноз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врде</a:t>
            </a:r>
            <a:r>
              <a:rPr b="1" i="1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зе</a:t>
            </a:r>
            <a:r>
              <a:rPr b="1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иноз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ега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ке</a:t>
            </a:r>
            <a:r>
              <a:rPr b="1" i="1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иселине</a:t>
            </a:r>
            <a:r>
              <a:rPr b="1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ју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иноз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ке</a:t>
            </a:r>
            <a:r>
              <a:rPr b="1" i="1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азе</a:t>
            </a:r>
            <a:r>
              <a:rPr b="1" lang="sr-Latn-C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иноз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изаби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ега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214280" y="1214280"/>
          <a:ext cx="6742440" cy="3173400"/>
        </p:xfrm>
        <a:graphic>
          <a:graphicData uri="http://schemas.openxmlformats.org/drawingml/2006/table">
            <a:tbl>
              <a:tblPr/>
              <a:tblGrid>
                <a:gridCol w="3370320"/>
                <a:gridCol w="3372120"/>
              </a:tblGrid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РДЕ КИСЕЛ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РДЕ БАЗ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Li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a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K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Be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Mg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a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r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Ln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r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r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Mn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Mn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o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Fe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i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l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Ga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n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s</a:t>
                      </a:r>
                      <a:r>
                        <a:rPr b="0" lang="it-IT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OH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 R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, ROH, ClO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O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O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O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O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H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O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H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NH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, NCS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ЛАЗНЕ ТВРДО-МЕКЕ КИСЕЛ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ЛАЗНЕ ТВРДО-МЕ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o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i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Zn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Ir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h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u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b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Bi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n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O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Br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l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N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iridin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O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SO</a:t>
                      </a:r>
                      <a:r>
                        <a:rPr b="0" lang="pl-P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Е КИСЕЛ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Е БАЗ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t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d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g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Cu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g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u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u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Hg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t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Ti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Ti</a:t>
                      </a:r>
                      <a:r>
                        <a:rPr b="0" lang="de-DE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, RSH, RS</a:t>
                      </a:r>
                      <a:r>
                        <a:rPr b="0" lang="pt-BR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etilen, benzen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N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CN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CN, CO, R</a:t>
                      </a:r>
                      <a:r>
                        <a:rPr b="0" lang="pl-P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, I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S</a:t>
                      </a:r>
                      <a:r>
                        <a:rPr b="0" lang="pl-P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pl-PL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l-P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7"/>
          <p:cNvSpPr/>
          <p:nvPr/>
        </p:nvSpPr>
        <p:spPr>
          <a:xfrm>
            <a:off x="1883880" y="4929120"/>
            <a:ext cx="519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8"/>
          <p:cNvCxnSpPr/>
          <p:nvPr/>
        </p:nvCxnSpPr>
        <p:spPr>
          <a:xfrm>
            <a:off x="4000680" y="5143320"/>
            <a:ext cx="242892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1" name="Straight Arrow Connector 10"/>
          <p:cNvCxnSpPr/>
          <p:nvPr/>
        </p:nvCxnSpPr>
        <p:spPr>
          <a:xfrm>
            <a:off x="3928680" y="5214960"/>
            <a:ext cx="242964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2" name="Straight Arrow Connector 12"/>
          <p:cNvCxnSpPr/>
          <p:nvPr/>
        </p:nvCxnSpPr>
        <p:spPr>
          <a:xfrm flipV="1">
            <a:off x="4143240" y="5214240"/>
            <a:ext cx="228672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3" name="Straight Arrow Connector 14"/>
          <p:cNvCxnSpPr/>
          <p:nvPr/>
        </p:nvCxnSpPr>
        <p:spPr>
          <a:xfrm>
            <a:off x="4143240" y="5715000"/>
            <a:ext cx="2286720" cy="286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690640" y="105264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9280" y="1744560"/>
          <a:ext cx="8748720" cy="5112000"/>
        </p:xfrm>
        <a:graphic>
          <a:graphicData uri="http://schemas.openxmlformats.org/drawingml/2006/table">
            <a:tbl>
              <a:tblPr/>
              <a:tblGrid>
                <a:gridCol w="720720"/>
                <a:gridCol w="2792520"/>
                <a:gridCol w="855720"/>
                <a:gridCol w="1087560"/>
                <a:gridCol w="1125360"/>
                <a:gridCol w="880920"/>
                <a:gridCol w="1285920"/>
              </a:tblGrid>
              <a:tr h="5922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мод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љ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а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 у малој гру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авник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лац</a:t>
                      </a:r>
                      <a:br>
                        <a:rPr sz="1200"/>
                      </a:b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д у бионеорганску хемију. Комплексна једињења. Централни јон метала. Лиганди. Дисоцијација комплекса. Координациони број. Хемијска веза, симетрија и изомерија молекула комплексних једињењ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. др Гордана П. Рад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828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клатура комплекса. Комплекси прелазних метала са  σ, π и δ везом. Комплекси прелазних метала са незасићеним угљоводоницима. Електронски спектри комплекса прелазних метала. Кисело-базне особине комплекса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је супститу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. др Гордана П. Рад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шка функција јона метала. Комплекси платинске групе метала. Комплекси злата, бизмута, сребра, антимона, ванадијума, хрома, мангана, гадолинијума,  калаја, гвожђа и кобалта. Остали биомолекули као потенцијални лиганди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. др Гордана П. Рад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gridSpan="7">
                  <a:txBody>
                    <a:bodyPr lIns="60840" rIns="6084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 30+15+30=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оцењ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савладава п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 по модулима. Оцена је еквивалентна броју стечених поена (види табеле). Поени се стичу н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и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У ТОКУ НАСТАВ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тек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30 поена и то тако што на посебном делу вежбе одговара на два испитна питања из те недеље наставе и у складу са показаним знањем добија 0-2 по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И ТЕСТОВИ ПО МОДУЛ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да стекне до 70 поена а према приложеној таб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920" y="1484280"/>
          <a:ext cx="8713800" cy="4903920"/>
        </p:xfrm>
        <a:graphic>
          <a:graphicData uri="http://schemas.openxmlformats.org/drawingml/2006/table">
            <a:tbl>
              <a:tblPr/>
              <a:tblGrid>
                <a:gridCol w="649080"/>
                <a:gridCol w="5184720"/>
                <a:gridCol w="1079640"/>
                <a:gridCol w="863640"/>
                <a:gridCol w="936720"/>
              </a:tblGrid>
              <a:tr h="468360"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О ПО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1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 у току наста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ршни т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д у бионеорганску хемију. Комплексна једињења. Централни јон метала. Лиганди. Дисоцијација комплекса. Координациони број. Хемијска веза, симетрија и изомерија молекула комплексних једињењ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клатура комплекса. Комплекси прелазних метала са  σ, π и   δ везом. Комплекси прелазних метала са незасићеним угљоводоницима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ски спектри комплекса прелазних метала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ело-базне особине комплекса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је супституциј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шка функција јона метала. Комплекси платинске групе метала. Комплекси злата, бизмута, сребра, антимона, ванадијума, хрома, мангана, гадолинијума,  калаја, гвожђа и кобалта. Остали биомолекули као потенцијални лиганд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ршна оцена се формира на следећи на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тудент положио предмет мор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текн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м 55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е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а положи све моду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положио модул студент мора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не виш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5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ом моду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не виш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5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ђених за активност у настав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сваком модул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50% поена + 1 по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ложи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ск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, односно да има више од 50%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их одгов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50% поена + 1 по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908000" y="1844640"/>
          <a:ext cx="5334120" cy="3113280"/>
        </p:xfrm>
        <a:graphic>
          <a:graphicData uri="http://schemas.openxmlformats.org/drawingml/2006/table">
            <a:tbl>
              <a:tblPr/>
              <a:tblGrid>
                <a:gridCol w="4035600"/>
                <a:gridCol w="12985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ОСВОЈЕНИХ ПО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- 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- 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-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- 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- 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9280" y="1268280"/>
          <a:ext cx="8785440" cy="4245120"/>
        </p:xfrm>
        <a:graphic>
          <a:graphicData uri="http://schemas.openxmlformats.org/drawingml/2006/table">
            <a:tbl>
              <a:tblPr/>
              <a:tblGrid>
                <a:gridCol w="3175200"/>
                <a:gridCol w="1697040"/>
                <a:gridCol w="1108080"/>
                <a:gridCol w="1844640"/>
                <a:gridCol w="960480"/>
              </a:tblGrid>
              <a:tr h="36540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ЏБ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В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д у бионеорганску хемију. Комплексна једињења. Централни јон метала. Лиганди. Дисоцијација комплекса. Координациони број. Хемијска веза, симетрија и изомерија молекула комплексних једињења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ска  комплексна и кластерна једињ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Б. Мил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МФ Крагујевац, 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inorganic chemi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H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lis Horwood Lim. 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нклатура комплекса. Комплекси прелазних метала са  σ, π и δ везом. Комплекси прелазних метала са незасићеним угљоводоницима. Електронски спектри комплекса прелазних метала. Кисело-базне особине комплекса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је супституциј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ска  комплексна и кластерна једињ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Б. Мил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МФ Крагујевац, 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inorganic chemi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H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lis Horwood Lim. 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шка функција јона метала. Комплекси платинске групе метала. Комплекси злата, бизмута, сребра, антимона, ванадијума, хрома, мангана, гадолинијума,  калаја, гвожђа и кобалта. Остали биомолекули као потенцијални лиганди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а комплексних једињења у медици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И. Ђур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МФ Крагујевац,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oinorganic chemis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H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lis Horwood Lim. 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splatin, Chemistry and Biochemistry of Leading Antitumor  Dr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Lippe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ey-VCH, Zuruch,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gridSpan="5">
                  <a:txBody>
                    <a:bodyPr lIns="43200" rIns="43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 предавања и материјал за рад у малој групи налазе се на сајту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лтета медицинских наука: </a:t>
                      </a: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www.medf.kg.ac.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rs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Gordana Radic</cp:lastModifiedBy>
  <dcterms:modified xsi:type="dcterms:W3CDTF">2018-07-24T10:06:57Z</dcterms:modified>
  <cp:revision>89</cp:revision>
  <dc:subject/>
  <dc:title>Slide 1</dc:title>
</cp:coreProperties>
</file>